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0536-230A-424B-BF4C-CA2708F7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2FFE-EA4A-47B4-9C81-5461C359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97F-5150-4E0D-B09F-1DB63808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050-FF45-46C4-B460-E187B9B5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2AD-F647-428F-BB14-E422D42B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FCD-AE31-4972-BBC6-EF65B3DA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ADD-E96D-455C-B009-4CEB79E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D8D-5DEB-47EE-B681-5D5A9F66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1C7-3721-410F-BD27-2971C91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7A7-AB71-436D-9B61-D378DB8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925-DBC8-4497-A5A4-5A7EBF3E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B02-9251-4D4B-9D20-A908CB0B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53A-CCA3-4046-92FE-EB87D15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65A-D788-49B5-889A-A745246E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626C-3E0D-4FAB-A00E-51919D0FF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Tengo 3 hermanos. Soy feliz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estamos aburridas. Tu eres muy alta. Trabajamos mañana. Mucho gusto! ¿Tú quieres helado mañan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00400"/>
            <a:ext cx="44956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! Estoy cansada! La escuela es difícil! ¿Dónde estas tú mañan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pero es muy bonita! ¿Es ella diverti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45 minutos ha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45720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! Yo estoy muy ocupada! ¿Cómo están hermanos? ¿Enfermos? Mis perros son muy grand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entario:      23 minutos ha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49568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¿ Tu foto es nueva? Mi papa trae yo a tu casa mañana! Tengo que preguntarle a mi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95480" y="5181480"/>
            <a:ext cx="472464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ñana! ¿Estas loca? Nuestra mente para dormir! No puedo ir m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tienes mi lib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2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971800" y="6019920"/>
            <a:ext cx="60199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 noches! Nosotras tenemos que espera para la gemelas! ¿Cuál casa? ¿Por qué vamos? Ch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3 horas hace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i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im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awha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2" descr="Geraldine and I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best friends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best friends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mina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Amina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jenni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jenni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9" descr="tumblr_lwu6gcLtHp1qfgnkqo1_500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0" descr="tumblr_lwu6gcLtHp1qfgnkqo1_500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757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7:59Z</dcterms:modified>
  <cp:revision>116</cp:revision>
  <dc:subject/>
  <dc:title>Profile</dc:title>
</cp:coreProperties>
</file>